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C97A-F756-418A-8F80-BE469C02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996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1467-EF41-4381-87E4-8511F795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F39E-C5CD-4821-B89A-B62C0AE7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64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300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99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64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300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DF9A-2D21-4013-AEF6-FA7FEC11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F180-97E7-444C-A957-B1014B68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1EAE-67EF-4704-98D5-83D5EA8A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B71A-F7F0-45FC-9CE0-0FF5A292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F597-8E81-4BA6-818E-342F5474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1F61-1F1E-4C87-90C1-67E6561E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98760" y="6091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BA3E-23D1-4FC1-9DD4-7E9C1702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CC13-4F5A-40C7-ABC1-394098B0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FB6F-395E-4D47-B788-077E1D71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488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341D-E3F2-4282-B373-2DC45505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D524-3C5A-46F9-89A6-C00081B1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5996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2C9A-D87D-4CA6-9229-F3024E76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488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AAEA-DADC-41D2-ACCD-B26FDD0D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64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300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599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64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300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410C-AFC6-4BF7-A2DA-AFFA89F7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41EA-48FC-478C-B223-11268EB6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AB81-5BAE-4A97-A349-93F2C815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6327-2752-47EC-B7C4-CD9D09F2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8760" y="6091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2B1C-91D7-499D-974C-D4ABB8D9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3441-4CC9-4AC9-A496-63CE9622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39F7-3C14-4618-91D5-109F3015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F96C-8EA9-488B-BD06-75C8951E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c11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c11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11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11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2FD1-1B60-4C7E-B09F-786602B4B272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c11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c11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118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11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A7CC-D551-4F87-916E-6E635FF4CA4B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46040" y="1902960"/>
            <a:ext cx="464796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The Circulatory System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Blood Vessels: Arteries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3504960"/>
            <a:ext cx="7162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Arteries carry blood away from the heart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The largest arteries are elastic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As arteries get further from the heart they get smaller, these are called arterioles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109" name="Picture 4" descr="ather_lowres"/>
          <p:cNvPicPr/>
          <p:nvPr/>
        </p:nvPicPr>
        <p:blipFill>
          <a:blip r:embed="rId1"/>
          <a:srcRect l="4687" t="0" r="4762" b="55636"/>
          <a:stretch/>
        </p:blipFill>
        <p:spPr>
          <a:xfrm>
            <a:off x="2743200" y="1406520"/>
            <a:ext cx="365292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Blood Vessels: Capillaries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Capillaries are microscopic blood vessels that are found in every body tissue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There are several million capillaries found in the circulatory system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112" name="Picture 4" descr="capillaries"/>
          <p:cNvPicPr/>
          <p:nvPr/>
        </p:nvPicPr>
        <p:blipFill>
          <a:blip r:embed="rId1"/>
          <a:stretch/>
        </p:blipFill>
        <p:spPr>
          <a:xfrm>
            <a:off x="304920" y="236232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Blood Vessels: Veins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When capillaries come together they form veins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Veins are responsible for taking blood back to the heart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Within veins there are valves that allow blood to flow to the heart, but not in the opposite direction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115" name="Picture 4" descr="bigstockphoto_heart_and_veins_2034940"/>
          <p:cNvPicPr/>
          <p:nvPr/>
        </p:nvPicPr>
        <p:blipFill>
          <a:blip r:embed="rId1"/>
          <a:stretch/>
        </p:blipFill>
        <p:spPr>
          <a:xfrm>
            <a:off x="5530680" y="1600200"/>
            <a:ext cx="3337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The Heart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The heart is divided into four chambers: two atria and two ventricles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Veins enter the atria while arteries leave from the ventricles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Also, there is an atriovencular valve which allows blood to flow in one direction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118" name="Picture 4" descr="heart1"/>
          <p:cNvPicPr/>
          <p:nvPr/>
        </p:nvPicPr>
        <p:blipFill>
          <a:blip r:embed="rId1"/>
          <a:stretch/>
        </p:blipFill>
        <p:spPr>
          <a:xfrm>
            <a:off x="5181480" y="2286000"/>
            <a:ext cx="373392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Heartbeat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The heartbeat is the movement of the heart which pumps blood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It is made up of three phases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Atrial Systole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Ventricular Systole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Diastole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121" name="Picture 5" descr="heartbeat"/>
          <p:cNvPicPr/>
          <p:nvPr/>
        </p:nvPicPr>
        <p:blipFill>
          <a:blip r:embed="rId1"/>
          <a:stretch/>
        </p:blipFill>
        <p:spPr>
          <a:xfrm>
            <a:off x="4876920" y="3505320"/>
            <a:ext cx="387324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Cardiac Cycle Phase 1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4189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Atrial Systole occurs when: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The atria contract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Blood is pumped through the ventricles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Blood travels through the open antriovencular valves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124" name="Picture 4" descr="cardiac cycle"/>
          <p:cNvPicPr/>
          <p:nvPr/>
        </p:nvPicPr>
        <p:blipFill>
          <a:blip r:embed="rId1"/>
          <a:srcRect l="0" t="0" r="68403" b="38656"/>
          <a:stretch/>
        </p:blipFill>
        <p:spPr>
          <a:xfrm>
            <a:off x="685800" y="1905120"/>
            <a:ext cx="333360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Cardiac Cycle Phase 2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14440" y="16002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Ventricular Systole occurs when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The ventricles contract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Sigmoid valves open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Blood flows out into the pulmonary artery and aorta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At the same time, valves in ventricles and aorta close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127" name="Picture 4" descr="cardiac cycle"/>
          <p:cNvPicPr/>
          <p:nvPr/>
        </p:nvPicPr>
        <p:blipFill>
          <a:blip r:embed="rId1"/>
          <a:srcRect l="30186" t="869" r="37241" b="36830"/>
          <a:stretch/>
        </p:blipFill>
        <p:spPr>
          <a:xfrm>
            <a:off x="685800" y="1905120"/>
            <a:ext cx="32115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Cardiac Cycle Phase 3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38120" y="1981080"/>
            <a:ext cx="4341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Diastole occurs when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The heart relaxes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Blood is drawn from the venae cavae and pulmonary veins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The blood flows into the atria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130" name="Picture 4" descr="cardiac cycle"/>
          <p:cNvPicPr/>
          <p:nvPr/>
        </p:nvPicPr>
        <p:blipFill>
          <a:blip r:embed="rId1"/>
          <a:srcRect l="67987" t="0" r="0" b="36830"/>
          <a:stretch/>
        </p:blipFill>
        <p:spPr>
          <a:xfrm>
            <a:off x="609480" y="1981080"/>
            <a:ext cx="315936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The Basics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58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The main components of the circulatory system are the heart, blood vessels, and blood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Together these components circulate blood through out the body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85" name="Picture 4" descr="circulatory system 4"/>
          <p:cNvPicPr/>
          <p:nvPr/>
        </p:nvPicPr>
        <p:blipFill>
          <a:blip r:embed="rId1"/>
          <a:stretch/>
        </p:blipFill>
        <p:spPr>
          <a:xfrm>
            <a:off x="4876920" y="1295280"/>
            <a:ext cx="2922480" cy="53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Blood: Composition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113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Blood is a viscous, or sticky, fluid which flows inside the vessels of the circulatory system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There is approximately 5.5 Litres of blood in the human body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88" name="Picture 4" descr="blood_transfusion"/>
          <p:cNvPicPr/>
          <p:nvPr/>
        </p:nvPicPr>
        <p:blipFill>
          <a:blip r:embed="rId1"/>
          <a:stretch/>
        </p:blipFill>
        <p:spPr>
          <a:xfrm>
            <a:off x="533520" y="2666880"/>
            <a:ext cx="3585960" cy="28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Blood: 3 Cell Types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Blood is made up of blood plasma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Within the blood plasma there are 3 types of of cells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Red blood cells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White Blood Cells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Platelets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91" name="Picture 4" descr="platelets"/>
          <p:cNvPicPr/>
          <p:nvPr/>
        </p:nvPicPr>
        <p:blipFill>
          <a:blip r:embed="rId1"/>
          <a:stretch/>
        </p:blipFill>
        <p:spPr>
          <a:xfrm>
            <a:off x="4572000" y="3124080"/>
            <a:ext cx="396720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Blood: Red Blood Cells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62520" y="1676160"/>
            <a:ext cx="4417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Red blood cells are the most common type of blood cell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They are disk shaped and have no nucleus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They contain haemoglobin, the pigment that makes blood red and also transports oxygen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94" name="Picture 4" descr="blood_cells"/>
          <p:cNvPicPr/>
          <p:nvPr/>
        </p:nvPicPr>
        <p:blipFill>
          <a:blip r:embed="rId1"/>
          <a:srcRect l="12862" t="7749" r="11188" b="12871"/>
          <a:stretch/>
        </p:blipFill>
        <p:spPr>
          <a:xfrm>
            <a:off x="533520" y="2209680"/>
            <a:ext cx="3203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Blood: White Blood Cells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0320" y="1981080"/>
            <a:ext cx="419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There are fewer white blood cells than red blood cells in the body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White blood cells help protect the body from infection, and eliminate cell debris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There are also 5 different types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97" name="Picture 4" descr="white-red-blood-cells"/>
          <p:cNvPicPr/>
          <p:nvPr/>
        </p:nvPicPr>
        <p:blipFill>
          <a:blip r:embed="rId1"/>
          <a:stretch/>
        </p:blipFill>
        <p:spPr>
          <a:xfrm>
            <a:off x="5181480" y="2514600"/>
            <a:ext cx="3613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Blood: Platelets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4419720"/>
            <a:ext cx="76201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Platelets are made up of cell fragments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These cell fragments contain substances that allow the blood to clot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100" name="Picture 4" descr="P2560045-Blood_platelets-SPL"/>
          <p:cNvPicPr/>
          <p:nvPr/>
        </p:nvPicPr>
        <p:blipFill>
          <a:blip r:embed="rId1"/>
          <a:stretch/>
        </p:blipFill>
        <p:spPr>
          <a:xfrm>
            <a:off x="2819520" y="1523880"/>
            <a:ext cx="3581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Blood Types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The membranes of the red blood cells contain different proteins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These proteins are responsible for creating the different blood types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Type A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Type B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Type AB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Type O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103" name="Picture 4" descr="230px-Blood_Compatibility"/>
          <p:cNvPicPr/>
          <p:nvPr/>
        </p:nvPicPr>
        <p:blipFill>
          <a:blip r:embed="rId1"/>
          <a:stretch/>
        </p:blipFill>
        <p:spPr>
          <a:xfrm>
            <a:off x="3886200" y="3429000"/>
            <a:ext cx="312408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Blood Vessels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Blood vessels allow for blood to circulate through out the body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There are 3 types of blood vessels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Arteries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Capillaries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Veins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106" name="Picture 4" descr="sh331-aa-detail"/>
          <p:cNvPicPr/>
          <p:nvPr/>
        </p:nvPicPr>
        <p:blipFill>
          <a:blip r:embed="rId1"/>
          <a:stretch/>
        </p:blipFill>
        <p:spPr>
          <a:xfrm>
            <a:off x="4191120" y="2895480"/>
            <a:ext cx="2892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8:18:05Z</dcterms:created>
  <dc:creator>Nicole Hornberger</dc:creator>
  <dc:description/>
  <dc:language>en-US</dc:language>
  <cp:lastModifiedBy>Admin</cp:lastModifiedBy>
  <dcterms:modified xsi:type="dcterms:W3CDTF">2012-04-16T14:55:23Z</dcterms:modified>
  <cp:revision>8</cp:revision>
  <dc:subject/>
  <dc:title>The Circulatory System</dc:title>
</cp:coreProperties>
</file>